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Hamilton C shell</a:t>
            </a:r>
            <a:br>
              <a:rPr sz="4200"/>
            </a:br>
            <a:r>
              <a:rPr b="1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for Windows 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90720" y="2666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00ff00"/>
                </a:solidFill>
                <a:latin typeface="Century Schoolbook"/>
                <a:ea typeface="Century Schoolbook"/>
              </a:rPr>
              <a:t>World’s Most Powerful Tool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amilton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1 Shadow Oak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dbury, MA  01776-3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 508-440-83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X  508-440-8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et 3890321@mci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14400" y="8380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Hamilton C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14400" y="2590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creation from scratch of the UNIX C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ludes over 130 commands and utilities including grep, fgrep, cron, cut, diff, ls, mv, cp, rm, head, tail, more, tar, s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rtually all the tools (other than the compiler) that a developer might ever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198108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Dramatically more powerful scrip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uilt-in and user-defined procedures (even a printf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ocal variabl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terrupt handl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ackground threads and process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mmand substitu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owerful expression grammar (including FP and filesystem test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Faster &amp; Easier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447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Better usabil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Full-screen command line edit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nlimited command line siz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mmand and filename comple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etter wildcarding, including indefinite directori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mproved language de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Improved performance &amp; responsivene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athhash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xtensive multi-thread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cremental compil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etter time/space tr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7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sign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219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Recreate all the functionality in the UNIX origi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he union of all the functionality of both System V and BS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ll the functions, all the command line switches -- Everythin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Fix all the numerous defici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Do more than just a cosmetic look-alike of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arefully adhere to all Windows NT conventions for escape characters, file slashes, network nam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o the right thing,” e.g., in starting apps that will run in a new window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ake advantage of threads and other new technology to do a better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Fanatical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ypical 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205740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ious developers at hard-core development shops like Microsoft, Lotus, Sybase, Parametric Technology, Tricord,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ly about half are coming from a UNIX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rest typically have no UNIX experienc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out half buy it for the scripting 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ther half buy it just for the interactive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hipping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981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  <a:tabLst>
                <a:tab algn="l" pos="308592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A stable, shipping produ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tel x86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July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IPS R4x00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ugust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C Alpha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cember 19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BM PowerPC: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ugust 199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  <a:tabLst>
                <a:tab algn="l" pos="308592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Quantity 1 price, including shipping by a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$350.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$365.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90000"/>
              </a:lnSpc>
              <a:spcBef>
                <a:spcPts val="720"/>
              </a:spcBef>
              <a:tabLst>
                <a:tab algn="l" pos="2228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$395. Else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  <a:tabLst>
                <a:tab algn="l" pos="308592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Unconditional satisfaction guaran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Hamilton C shel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ottom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362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ypically, a customer can save an hour/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nyone worth putting in front of a tube is worth $50/hou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3000" spc="-1" strike="noStrike">
                <a:solidFill>
                  <a:srgbClr val="00ff00"/>
                </a:solidFill>
                <a:latin typeface="Arial"/>
                <a:ea typeface="Arial"/>
              </a:rPr>
              <a:t>Payback is about a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uglas A. Hamilton</dc:creator>
  <dc:description/>
  <dc:language>en-US</dc:language>
  <cp:lastModifiedBy>Douglas A. Hamilton</cp:lastModifiedBy>
  <cp:revision>0</cp:revision>
  <dc:subject/>
  <dc:title>Hamilton C shell for Windows NT</dc:title>
</cp:coreProperties>
</file>