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FC9-28D1-455A-A407-EFF550AC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239-CCA5-4D19-ACFC-7F0B22BD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A95-5F16-43BA-A473-B89EC144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3A3-549D-4C8E-8EFF-7F3AFCE8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D9D-53E5-4AE5-8912-108782F2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A0C-0CFA-4371-84A9-0CD424A8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26D-FFB8-44A4-A9C7-13FCC289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487-FEE4-4858-9494-2B156E6C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534-40D5-45AA-BB4B-EFE49084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96B-DF3D-489A-AD04-A6530CE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F99-8B81-4D5F-90DB-A00DBE68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806-52D4-4448-89B6-EE77D138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3847-2B43-4383-98C8-D4415111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orphism &amp;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204 Bernhard Pfahri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lots of input from Mark H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 + morphos (greek) “many for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overr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la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: cannot extend/subcl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5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any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public class String { ..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: cannot be overridden in sub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at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public void makeNoise(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: cannot chang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nt count = animals.leng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ment and return type must be the s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Applianc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boolean turnOn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Toaster extends Applianc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boolean turnOn(int level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be less acces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pplianc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boolean turnO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Toaster extends Applianc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boolean turnOn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(or more) methods with the same name but different argument lists (see code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best avoided, can be very confusing and counter-intu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method is execu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time: compiler ensures that method with appropriate signature (compile-time type info for arguments) exists in “compile-time” receiv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: given the actual runtime-type of the receiver, the most specific method of appropriate signature is located and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&gt; runtime types of arguments do NOT matter (again, see code examp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lass redefines a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ybe modifie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Rectangl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ring toString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“&lt;Rectangle @ ”+x+”/”+y+” “+width+” by “+height+”&gt;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lasses inherit everything from superclasses, but cannot directly acces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elds or methods, onl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tected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till access overridden 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roam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.roam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some additional local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: Is-A (not Has-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should extend A if   “B is-A 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 Is-A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eon Is-A Medical 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hroom Has-A 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 is an instance variable of Bathroom (Compos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heritance to implement shared behaviour (code) only o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avoid code duplic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change (only one place), especially when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one declares and initializes a referenc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 myDog = new Dog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space for reference variable of typ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space for a new Dog object on the heap (and initializ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the reference to the new 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type can be any super class or Interface implemented by actual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myDog = new Dog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generic as possible =&gt; more flexible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&lt;String,Object&gt; myMap = new HashMap&lt;String,Object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[] animals = new Animal[]{new Dog(), new Lion(), new Cat(), new Wolf(), new Hippo()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(Animal a: animal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ea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roam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/Arguments and return values can be polymorphic to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Ve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giveShot(Animal a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makeNoi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etOwn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star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t v = new V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 d = new Do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po h = new Hipp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giveShot(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giveShot(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9:01:49Z</dcterms:created>
  <dc:creator>CS, SCMS Waikato University</dc:creator>
  <dc:description/>
  <dc:language>en-US</dc:language>
  <cp:lastModifiedBy>CS, SCMS Waikato University</cp:lastModifiedBy>
  <dcterms:modified xsi:type="dcterms:W3CDTF">2007-07-08T10:12:19Z</dcterms:modified>
  <cp:revision>15</cp:revision>
  <dc:subject/>
  <dc:title>Polymorphism &amp; Methods</dc:title>
</cp:coreProperties>
</file>