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93C-4795-4781-9C47-FD1DB211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33F-F8B2-4DD2-846A-58378003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919-BBD6-4E55-A41F-1558EAE8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47B-320E-4AE7-BBD6-6B53687F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408-D2A3-4E90-8D63-EA9D85D5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54E-7F58-4A41-85B5-879DBB61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2FE-D58D-4D6F-8428-85FC8F61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2D6-7323-4799-8DCB-0BD8A075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7F6-5CCC-4572-A15D-FC338934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158-733F-4BDB-8B51-6399AAA6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B2F-89B0-4D38-9FD6-B2D03876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3D0-3DF8-4343-B2E1-340F3233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8452-A673-485E-BA96-50A316C28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Gene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204 Bernhard Pfahri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input from Robi Mal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types for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Java (1.4 and olde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strings = new Array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s.add(“hell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word = (String) strings.get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(since 1.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&lt;String&gt; strings = new ArrayList&lt;String&gt;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s.add(“hell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word = strings.get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read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type-safety: no casts (runtime checks), compiler can already catch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your own gener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Stack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ush(E elemen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.add(elem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E pop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top = contents.size()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result = contents.get(to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.remove(to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List&lt;E&gt; contents = new ArrayList&lt;E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type par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lass Stack&lt;E&gt; { …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05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 Short (single-char) upp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wherever a Type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replaced with actual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sub-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Student extends Person { .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udent&gt; students = new ArrayList&lt;Student&gt;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Person&gt; people = student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should this be possible? -&gt;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, bec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sam = new Person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.add(sa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if this was legal, we would have just sneaked a non-student onto the students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other hand, how do you write generic code then accepting lists of sub-types of Persons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printCollection(Collection&lt;?&gt; c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(Object o: c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only read access (everything is an Object), but cannot add, because do not know correct type (except null, which is any typ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nded wild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drawAll(Collection&lt;? extends Shape&gt; c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(Shape shape: c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.dra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again, only read access, allows collections of Shape or any sub type of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09:01:49Z</dcterms:created>
  <dc:creator>CS, SCMS Waikato University</dc:creator>
  <dc:description/>
  <dc:language>en-US</dc:language>
  <cp:lastModifiedBy>CS, SCMS Waikato University</cp:lastModifiedBy>
  <dcterms:modified xsi:type="dcterms:W3CDTF">2007-07-10T11:16:18Z</dcterms:modified>
  <cp:revision>27</cp:revision>
  <dc:subject/>
  <dc:title>Polymorphism &amp; Methods</dc:title>
</cp:coreProperties>
</file>