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326-AEDE-40B2-828B-D84B4BDD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10A-2CAF-4D3D-836D-1E5E518E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0F7-12C4-4EB0-93AF-5F7B4B17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839-CFFA-4CED-AD96-7416BFDD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356-6786-496B-9353-DA9748A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062-6FBF-4B6F-B43F-149F99A7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928-3467-4D1D-B99C-1C1239DB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AF6-84A4-4BA5-BF04-B557EA3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C58-8D5C-4E44-AB70-2992ABD1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050-C8D0-4071-A0DB-57FB25A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F06-4A5D-432C-8D83-A71B3D7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4A9-3042-4D24-96F0-11D8225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F7C-B8C8-45CB-A5B7-DA800B89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java/util/concurrent/atomic/AtomicInteger.html#addAndGet(int)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java/util/concurrent/Executors.html" TargetMode="External"/><Relationship Id="rId2" Type="http://schemas.openxmlformats.org/officeDocument/2006/relationships/hyperlink" Target="http://java.sun.com/javase/6/docs/api/java/util/concurrent/Executors.html" TargetMode="External"/><Relationship Id="rId3" Type="http://schemas.openxmlformats.org/officeDocument/2006/relationships/hyperlink" Target="http://java.sun.com/javase/6/docs/api/java/util/concurrent/Executors.html" TargetMode="External"/><Relationship Id="rId4" Type="http://schemas.openxmlformats.org/officeDocument/2006/relationships/hyperlink" Target="http://java.sun.com/javase/6/docs/api/java/util/concurrent/ExecutorService.html#submit(java.lang.Runnable)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the future is paralle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oolSize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orService pool = Executors.newFixedThreadPool(pool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&lt;Future&lt;Double&gt;&gt; future = new ArrayList&lt;Future&lt;Double&gt;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0; i &lt; max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.add(pool.submit(new SomeComputation(i)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wait until all are finished and collect 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total = 0.0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Future&lt;Double&gt; 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: fu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tal += future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l.shutdow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SomeComputation implements Callable&lt;Double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 int offset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omeComputation(int offset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offset = off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Double call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some computation using “offse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safe “atomic”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hronized (System.out) {</a:t>
            </a: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”someComputation offset = “ + offset +  “ “ + someMess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some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va.util.concurrent.at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-safe “atomic” access for certain objects and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tomic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dAndG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ically adds the given value to the current value and returns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e also concurrent versions of collections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ynchronization can be expensive, can lead to deadlocks and similar, avoid, or replace with high-level construct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tasking: do multiple things in parall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your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mp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side single App: mp3 player (decompress, play, graph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usually only 1 or 2 CPUs with 1 or 2 cores that switches betwee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threading similar, b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ide a 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/process/con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data directly, same classes/methods/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reads: 2 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lassing Class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xpensiveComputation extends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implement run()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rt() on a new inst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w ExpensiveComputation())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interface Runn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xpensiveComputation implements Run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implement run()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wrapping inside a Thread inst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hread = new Thread(new ExpensiveComputation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will stop automatically, once run() fin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re-emptive or cooperativ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should regularly call on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ive other threads a chance to run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 handlers (all listeners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nt() execut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t-handling th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like “actionPerformed()” should be fast, for  more substantial computations they sh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how tell another thread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screen repainting will suff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wo (or more) threads access some value simultanously, and at least one want’s to modify the value, things can go wr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1:   (a1) read a, (b1) compute a+10, (c1)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2:   (a2) read a, (b2) compute a+10, (c2)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alue of a after the following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,b1,a2,b2,c2,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ynchronized void increment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thread at a time can execute this method on the same insta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interleaving possible (“atomic action”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inconsist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: beware of inefficiencies/dead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 level: java.util.con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useful high-level stuff for concurre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poo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use quite some resources (especially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s limit the number of threads, queue requests for more threads/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ade more gracefully under high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 p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java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util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concurrent.Executors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FixedThreadPool(int poolSize) creates an ExecutorService of 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ood default: poolSize = number of 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nn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sk) returns a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explicitly shutdown()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ecutor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able / Callable /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is a “Wrapper” representing the future value of the thread’s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with get(), will block until thread is finished =&gt; easy synchr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able’s run() method returns only 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’s call() method can return any Object,  but does not take arguments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nstructor to “pass in”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omputer Science</cp:lastModifiedBy>
  <cp:lastPrinted>2009-04-22T19:24:48Z</cp:lastPrinted>
  <dcterms:modified xsi:type="dcterms:W3CDTF">2007-08-12T23:51:09Z</dcterms:modified>
  <cp:revision>277</cp:revision>
  <dc:subject/>
  <dc:title>Types and type classes</dc:title>
</cp:coreProperties>
</file>