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1564-238C-4E5C-A73B-7858E1481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C65E-5210-4DBB-AC08-1B7EB91B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80EA-5B18-4529-A7BE-5FE9A23C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3F29-178C-430E-96B3-3A5E3DEC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B515-591C-440E-A288-0F39511C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7969-C5A3-4C35-BB6F-10DFD64E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89CF-872C-42A6-8FDA-988E1875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3FE4-AA98-4664-9D1A-556F4130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347A-C303-4FD7-9C18-F4FAE61B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703A-59BF-459F-965E-E570194A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C4FF-8D06-4650-84FB-CF02669B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981D-2CAF-4181-B63C-AFF34B7B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ECDC-10FB-4327-877D-5CFAC8E27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 Expression in Jav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33526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2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: Sun tutorial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greedy quant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gex: .*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: xfooxxxxxx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&gt; 0:13 "xfooxxxxxxfoo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reluctant quant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gex: .*?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: xfooxxxxxx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&gt; 0:4 "xfo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&gt; 4:13 "xxxxxxfoo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possessive quant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gex: .*+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: xfooxxxxxx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 match f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turing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fiers apply to single characters (e.g. a*, matches everything, why?), character classes (e.g. \s+) or groups (e.g. (dog){2}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s are numbered left-to-rig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(A)(B(C))) 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((A)(B(C)))  2 (A)  3 (B(C))  4 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 to groups with e.g. \2 for group tw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ex: (\w)\1  string: hello   =&gt; 2:4 “l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^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ginning of a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$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d of a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\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A word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\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A non-word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ginning of the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d of the previous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Z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d of the input but for the final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urier New"/>
              </a:rPr>
              <a:t>termin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z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d of the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tern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olean b = Pattern.matches("a*b", "aaaaab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attern p = Pattern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urier New"/>
              </a:rPr>
              <a:t>compil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"a*b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tcher m = p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urier New"/>
              </a:rPr>
              <a:t>matcher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"aaaaab"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olean b = m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urier New"/>
              </a:rPr>
              <a:t>matche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atter allows for efficient re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itting a string using a reg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ttern p = Pattern.compile(“a*b”);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[] items = p.split(“aabbab”);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(String s : items)            System.out.println(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milar to split(regex) method in class String (see last slide Lecture11.pp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[] items = “aabbab”.split(“a*b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cher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s of methods, e.g. to access groups (see test harness) or replace expres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ttern p = Pattern.compile(“dog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cher m = p.matcher(“the dog runs”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result = m.replaceAll(“cat”);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resul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&gt;  “the cat ru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ing class has one-off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og runs”.replaceFirst(“dog”,”cat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 “the cat ru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abcbdabe”.split(“a*b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&gt; {“”,“c”,”d”,”e”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fooxxxxxxfoo”.matches(“.*foo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&gt;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ay to describe patterns in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regex in Pe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yptic syntax: “write once, ponder many tim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search, parse, modify textu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: java.util.regex with classes Pattern, Matcher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atternSyntaxExcep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lus utility methods in String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ing constants m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gex: f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: fo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=&gt; 0:3 "foo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gex: f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: foofoof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=&gt; 0:3 "fo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=&gt; 3:6 "fo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=&gt; 6:9 "foo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 charac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characters are “special”, e.g. a single dot “.” matches any charac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ex: c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: c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 0:4 c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s ar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[{\^-$|]})?*+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se meta char literally: “escape” with backslash (e.g. \.), or “quote”, e.g. \Q.\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c] 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imple cl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^abc]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y character excep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neg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-zA-Z]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roug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roug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clusive (r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-d[m-p]]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roug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roug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-dm-p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un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-z&amp;&amp;[def]]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nters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-z&amp;&amp;[^bc]]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roug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xcept f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d-z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ubtra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-z&amp;&amp;[^m-p]]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roug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no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roug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-lq-z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ubtra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defined classes (see Patter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character (may or may not match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urier New"/>
              </a:rPr>
              <a:t>line termina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digit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0-9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\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n-digit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^0-9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\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tespace character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 \t\n\x0B\f\r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\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n-whitespace character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^\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\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 character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a-zA-Z_0-9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\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n-word character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^\w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dy Quantif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?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nce or not at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*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zero or more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+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ne or more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}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xactl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,}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t lea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}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t lea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t not more th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uctant quantif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??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nce or not at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*?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zero or more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+?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ne or more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}?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xactl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,}?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t lea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}?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t lea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t not more th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essive Qantif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?+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nce or not at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*+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zero or more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++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ne or more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+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ct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}+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t lea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+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t lea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 not more th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7T11:02:17Z</dcterms:created>
  <dc:creator>CS, SCMS Waikato University</dc:creator>
  <dc:description/>
  <dc:language>en-US</dc:language>
  <cp:lastModifiedBy>Computer Science</cp:lastModifiedBy>
  <dcterms:modified xsi:type="dcterms:W3CDTF">2007-08-15T21:56:11Z</dcterms:modified>
  <cp:revision>246</cp:revision>
  <dc:subject/>
  <dc:title>Winning the 2004 Cup</dc:title>
</cp:coreProperties>
</file>