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9FE-900E-4966-9E17-97D04E67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E80-3B36-4933-A09E-2184773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3DD-8D17-481A-A6AB-CB0003C1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CED-B2B6-4ADA-B11B-BA1044B6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13A-5C35-4DDD-828F-FFEA0A0C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83B-3994-400C-A431-DD9B4397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800-9621-4ACA-8F92-D00B5CF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914-F3F6-48FC-9DE8-D1AEC913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06E-0AF8-449B-984F-6902708C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0A8-B683-4150-96F7-52DA048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D3B-4B00-4825-86CA-C60A9BF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CBC-4D33-4399-B24D-ED20C37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C8BA-6BC4-469E-B52C-87E5E64C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14: Input/Outpu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bstract class OutputStream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bstract void write(int b) 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write(byte[] buffer) 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flush() 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close() 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a few output streams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ff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efficiency reasons), flush() explicitly forces completion of pending outpu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PrintStream extends FilterOutputStre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boolean b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int i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float f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double d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String st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(Object o) { print(o.toString()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(Object o)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ely polymor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 instances into 8bit units can be send over networks, stored in file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object persistence, i.e. save state across program inv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Serializable, classes ObjectInputStream and ObjectOutput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be tricky: need to get shared structure 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Serial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io.Serializa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ir implements Serializab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fir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sec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Holder implements Serializab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empty interface, so “implements Serializable” suff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Serialization example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D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today = new D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er a = new Hold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value = to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er b = new Hold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value = to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c = new Pai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irst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cond =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01920" y="2322360"/>
            <a:ext cx="152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248520" y="2666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666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5053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934320" y="35053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Serialization: write to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OutputStream f = new FileOutputStream(“saveStat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OutputStream s = new ObjectOutputStream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writeObject(“The value of c i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writeObject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flus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atch (IOException 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received error “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Serialization: read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InputStream f = new FileInputStream(“saveStat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nputStream s = new ObjectInputStream(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tag = (String) s.readObjec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c = (Pair) s.readObjec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atch (IOException 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“received IO exception “ + 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atch (ClassNotFoundException 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“received class exception “ + 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Serialization: check 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er a = (Holder) c.fir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er b = (Holder) c.seco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 a.value == b.value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it’s the same object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d 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/consumer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threads and 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pe: buffered data area used for both 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suspend on IO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, because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, because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: matched pair of str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dInputStream in = new PipedInputStrea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dOutputStream out = new PipedOutputStream(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ped IO Exampl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bonacci + Pr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FibMaker extends Threa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DataOutputStream ou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FibMaker(DataOutputStream o) {out = o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.writeInt(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(m&lt;10000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ewValue = n+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new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.writeInt(new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IOException e) {return; }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s vs. Readers/Writ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sing number of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s: for binary 8bit (byte)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s/Writers: for String and 16bit Unicod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s: always 8bit quantities at the lowest level, but may provide higher-level abstractions as well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t() [in class DataInputStream] will process four 8bit values to read a single 32bit i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d IO 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PipeTes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public void main(String[] arg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PipeTest w = new PipeTest(); w.show(System.out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PipeTest(PrintStream ou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InputStream fibs = makeFib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InputStream primes = makePrim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x = fibs.read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y = primes.read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x &lt; 10000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x ==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.println(x + “ is both prime and fib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fibs.read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primes.readInt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 if (x&lt;y) x = fibs.read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 y = primes.read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catch (IOException e) { System.exit(0);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d IO 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DataInputStream makeFibs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dInputStream in = new PipedInputStrea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dOutputStream ou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ipedOutputStream(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fibThread = new Fib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DataOutputStream(out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Thread.star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new DataInputStream(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atch (IOException e) { return null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 and Writer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840" y="1407960"/>
            <a:ext cx="8309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             CharArray           InputStream       Filter        Piped      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               Reader                Reader              Reader    Reader       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Number                                   File                    Push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                                           Reader             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     CharArray  OutputStream   Filter     Piped     Print  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         Writer         Writer                Writer   Writer     Writer    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2578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s/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textual, but similar to IO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Reader f = new FileReader(“filenam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Reader b = new BufferedReade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atch (…){ … }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rap around IO str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InputStream f = new FileInputStream(“f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treamReader r = new InputStreamReader(f,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MacCyrillic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Reader b = new BufferedReader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text = r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.split(String Rege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simpler than StreamToke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boo:and:foo”.split(“:”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“boo”,”and”,”foo”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boo:and:foo”.split(“o”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“b”,””,”:and:f”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ical loop to process file 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reader = new BufferedRead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fileNam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(line = reader.readLine()) != null) { String[] tokens = line.split(“ 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rocess token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Stream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7800" y="1560600"/>
            <a:ext cx="7962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Array     File               Filter            Piped            Object         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 InputStream InputStream InputStream InputStream 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            Buffered       LineNumber  Push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 InputStream InputStream 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2096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62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280" y="4952880"/>
            <a:ext cx="709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yteArrayInputStream, FileInputStream, Pip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Input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class InputStream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ad() throws IOExce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ad(byte[] buffer) throws IOExce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kip(long n) throws IOExce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vailable() throws IOExce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close() throws IOExce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Exception: e.g. file cannot be opened, read operation was interrupted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inpu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nstru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ArrayInputStream(byte[] buff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ArrayInputStream(byte[] buffer, int offset, int 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InputStream(File 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InputStream(String 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dInputStream(PipedOutputStream 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File instead of String as argument to the FileInputStream constru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inpu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top of physical ones using composition, add additional behaviour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InputStream: appends a couple of InputStreams giving the impression/illusion of just a single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InputStream: an instance of the “Wrapper design patter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4114800"/>
            <a:ext cx="142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4400" y="6251400"/>
            <a:ext cx="1444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5181480"/>
            <a:ext cx="1444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0100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Input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DataInputStream extends FilterInputStream implements DataInpu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boolean readBoolean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byte readByte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har readChar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double readDouble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int readInt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long readLong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hort readShort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int readUnsignedByte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int readUnsignedShort() throws IO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bytes (binary representation, not textual), return them as primitiv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generated by Data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interface also used by RandomAccess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Toke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to break up text into tokens (words, numbers, other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TokenTes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Tokenizer tok = new StreamTokeniz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tok.nextToken() != tok.TT_EO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(tok.t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tok.TT_NUM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“number “ + tok.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default: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catch (IOException e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-skidoo, kid!” yields:  number 23.0 token – word skido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stream hiera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6120" y="1712880"/>
            <a:ext cx="81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Array          File                    Filter                 Piped                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tream   OutputStream   OutputStream   OutputStream    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                 Buffered            Prin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tream   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440" y="4724280"/>
            <a:ext cx="908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InputStream hierarc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: ByteArrayOutputStream, FileOutputStream, Pip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: all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S, SCMS Waikato University</cp:lastModifiedBy>
  <cp:lastPrinted>2009-04-22T19:24:48Z</cp:lastPrinted>
  <dcterms:modified xsi:type="dcterms:W3CDTF">2007-08-08T05:51:05Z</dcterms:modified>
  <cp:revision>194</cp:revision>
  <dc:subject/>
  <dc:title>Types and type classes</dc:title>
</cp:coreProperties>
</file>