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56E-D648-4D24-B78A-8A1F0BB8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CD9-B579-46B3-A846-F40C6060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79B-78F5-4911-9D38-164B1B16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8F9-7ACF-4BD0-B792-A039405C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F1C7-5E5D-4EA8-89E8-BB24BECC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4A37-CA14-4A98-8BBA-AA943F59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5067-E820-470A-938F-0B514F1A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0B72-CAFC-47C0-B1B7-4A0BEFF1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9ACD-29B9-4EB8-9CD1-70FF7C6C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6CE8-D15B-4EC2-9C59-24AA618A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B7C5-DA9B-466F-ADC1-F138F41B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09D-D6EB-40DF-BDA4-CD864E65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47F2-AB49-4513-B180-F65356E7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7B5B-26D2-4A0B-B53D-D29C5754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B2B8-312F-48A0-881F-74E100D0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0D89-9A73-4EC2-9951-FFBD8BC4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48D9-68BC-4816-B9A4-04A7DD5A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7F3-A82F-4C58-93DF-F42957AB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D51-0FB4-43D5-ACCF-7F108164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788-91CF-44BB-A7D1-40DB0140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E07-C2D0-47FA-95E1-D7DAA16B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1CA-3F33-4553-898B-50141125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E92-48F8-45F2-A931-951CE5B0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C71-0F6D-47D3-8C67-D61844D2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9019-0C73-4F92-862E-DE3EE5EF81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569C-ABA8-4512-A1C7-13A8263E55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re Implications of Inherita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204, Bernhard Pfahri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tilities: System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ain lots of useful utilities, have a look at the Javadoc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.arraycopy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.nanoTim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.identityHashCode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.getenv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mutable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not be changed after “constructi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not allow modification by not providing “mutators” (methods that change 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ing data fields “private” (always good ide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ost likely) prevent against subcla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ful for “value” types, like Integer, String, and so on; safe to use as keys for HashMaps (see code example for explan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hCode “rule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.equals(b) == true  =&gt; a.hashCode() == b.hashCode(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only this direction, different objects can have the same hashCode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 constr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plicit constructor: system adds “default constructor”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A() { super()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constructor given explicitly: no “default constructor” will be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ne in the constructor can explicitly pass on to constructor of the super-class or same class (if not, system will add “super();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A() { super(“info”); /* more code */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A() { this(0); /* more code */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uction or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ields are allocated and initialized to default values (0, null, …) *before any* code blocks or constructor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he process is top-down (most general class first to most specific last), each ti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ields are initialized to their actual values (e.g. 1 in the code example),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code blocks are run,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pective constructor is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d Inheritanc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class InstrumentedArrayList extends ArrayList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 The number of attempted element addi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ate int addCount = 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InstrumentedArrayList(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InstrumentedArrayList(Collection c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per(c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InstrumentedArrayList(int initialCapacity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per(initialCapacity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void add(int index, Object o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Count++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per.add(index,o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boolean addAll(Collection c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Count += c.siz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super.addAll(c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int getAddCount() { return addCount;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strumentedArrayList s = new InstrumentedArrayList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.addAll(Arrays.asList(new String[] {”A",”B",”C"}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stem.out.println(s.getAddCount(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tter: use Compos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 java.util.*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InstrumentedList implements List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inal List s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int addCount = 0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InstrumentedList(List s)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s = s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add(int index, Object o)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Count++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.add(index, o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boolean addAll(Collection c)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Count += c.size();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s.addAll(c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sition,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int getAddCount()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addCoun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/ plus all necessary forwarding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clear() { s.clear(); 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boolean contains(Object o) { return s.contains(o); 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boolean isEmpty()  { return s.isEmpty();   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 so on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tilities: Arrays class, Colle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ts of useful utilities, have a look at the Javadoc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s.sort(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s.binarySearch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s.toString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s.fill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s.hashCode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s.equals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s.asList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s.deepEquals(..), deepToString(..) deepHashCode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ections.shuffle(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20:58:00Z</dcterms:created>
  <dc:creator>bernhard</dc:creator>
  <dc:description/>
  <dc:language>en-US</dc:language>
  <cp:lastModifiedBy>CS, SCMS Waikato University</cp:lastModifiedBy>
  <cp:lastPrinted>2009-04-22T19:24:48Z</cp:lastPrinted>
  <dcterms:modified xsi:type="dcterms:W3CDTF">2007-07-18T06:36:58Z</dcterms:modified>
  <cp:revision>152</cp:revision>
  <dc:subject/>
  <dc:title>Types and type classes</dc:title>
</cp:coreProperties>
</file>