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7605-A5DD-4A8B-B46A-67EE28454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0C2C-7E91-41A6-AB56-64F3A182A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371D-4B80-4647-B99A-4079FEBBA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127A-7F73-4D98-90FA-92FD67235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70C7F-5D6A-4830-8A10-BC1070E2B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7471F-F839-4E99-9EB0-626D3B2D8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5E5C3-E699-4A5C-9B24-7C667A54C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76B40-2C5A-4909-8416-23C7DF577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5434B-2219-4AE2-A840-A85C7A25A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E2075-5C3B-448A-A30D-3CB53BE71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7853B-A729-48B4-A879-7CEDB1893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9131-9AD2-4001-A17C-0A560BB03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1409D-D59A-4833-ADE3-F4F83640D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96794-5318-4CBE-87BA-BF1A53381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7C701-B8AE-4C75-99AE-EBCBD2BB1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13708-2FA4-432D-987D-4248ACE0A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CBBB5-668D-4D6D-B0A1-81CE72D08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63B6-9E52-49C5-99A7-CEBCD7683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174A-AC47-4793-997A-38ECF55B8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7C0C-7160-4F96-A64C-A0F5F8EDD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84BD-3DE4-427F-AA96-6584AD785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5FB8-DC72-4E6E-A6FC-4FA56D6CA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214B-9745-45AF-AD8E-777EF91AD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7C9B-BF2C-4537-AD38-CA5B3C0A6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891E8-928B-4DF0-8E19-E41FB4D053F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784AE-BB30-4766-8D2D-BADA91558CA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More Swing utilities: JTree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204, Bernhard Pfahring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snippets taken from Sun’s JTree demo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splaying/inspecting/modifi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archical dat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143000" y="1828800"/>
            <a:ext cx="7086600" cy="456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Jtree displays tree nod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/ node data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aultMutableTreeNode top =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DefaultMutableTreeNode("The Java Series"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Nodes(top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Tree tree = new JTree(top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ee.addTreeSelectionListener(this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reeSelectionListen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c void valueChanged(TreeSelectionEvent 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aultMutableTreeNode node = (DefaultMutableTreeNo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ee.getLastSelectedPathComponen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(node == null) return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bject nodeInfo = node.getUserObjec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(node.isLeaf()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okInfo book = (BookInfo)nodeInfo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playURL(book.bookURL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playURL(helpURL)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up data stru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ivate void createNodes(DefaultMutableTreeNode top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aultMutableTreeNode category = null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aultMutableTreeNode book = null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tegory = new DefaultMutableTreeNode("Books for Java Programmers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.add(category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ok = new DefaultMutableTreeNode(new Book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"The Java Tutorial: A Short Course on the Basics"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"tutorial.html"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tegory.add(book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nel nest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eeDemo extends Jpan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JScrollPane treeView = new JScrollPane(tre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tmlPane = new JEditorPane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tmlPane.setEditable(fals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JScrollPane htmlView = new JScrollPane(htmlPan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JSplitPane splitPane = new JSplitPane(JSplitPane.VERTICAL_SPLIT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litPane.setTopComponent(treeView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litPane.setBottomComponent(htmlView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litPane.setDividerLocation(100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dd(splitPan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03T20:58:00Z</dcterms:created>
  <dc:creator>bernhard</dc:creator>
  <dc:description/>
  <dc:language>en-US</dc:language>
  <cp:lastModifiedBy>Computer Science</cp:lastModifiedBy>
  <cp:lastPrinted>2009-04-22T19:24:48Z</cp:lastPrinted>
  <dcterms:modified xsi:type="dcterms:W3CDTF">2007-09-05T22:49:50Z</dcterms:modified>
  <cp:revision>192</cp:revision>
  <dc:subject/>
  <dc:title>Types and type classes</dc:title>
</cp:coreProperties>
</file>