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C828-1961-4333-9714-4A538EE8A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A163-919F-4866-8568-C84736DD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3EA3-5B8B-4544-8451-A415B3C0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8117-E63B-4811-B200-13648637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4441-3C5A-413E-BC0F-278550A8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40B3-8C53-407A-991D-1C8CA0D2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CDF1-A79A-411A-B303-9E47E303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11AC-0CE5-46C5-BE26-0424728A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4161-BDBC-47AD-9DFF-7433A1A1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3F45-537E-4462-BFBC-B4696CCD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5F86-B439-4493-B0F2-380BC716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F05E-8783-4E81-80FD-B9BC8B1D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8759-43E5-4AE2-93B4-1DE5D72F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CAE4-D962-4634-BCA1-FB9789FB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5106-AB9E-4E05-9DFC-265069B0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981C-2FEE-4EA4-A395-06B77C6E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F4B2-42E4-4AB0-881D-F95DA37D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711B-52AB-4237-9697-58CF718B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679C-59FC-4870-B590-24A338FC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18C5-E4EB-4F83-A034-69027A2C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79CF-8682-45D0-AC54-663AC8BA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8C9E-270F-4B44-84F6-BC7C1E24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3A8C-4550-427B-9202-B8110E6A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D765-6B7D-4D5B-A442-2F806C9D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97A4-00EE-4F36-B00E-551A25ED17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DC3C-E5A0-49F6-93E4-69B68C057D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ore Swin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204, Bernhard Pfahrin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rdButton.addActionListener(thi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Panel radioPanel = new JPanel(new GridLayout(0, 1));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dioPanel.add(birdButto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(radioPanel, BorderLayout.LINE_STAR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(picture, BorderLayout.CENT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Border(BorderFactory.createEmptyBorder(20,20,20,20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c void actionPerformed(ActionEvent 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cture.setIcon(createImageIcon("images/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e.getActionCommand() + ".gif"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alo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purpose window displayed shor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notify, or ask simple ques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attached to 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al: demands user response, prevents further actions; show() won’t return until dismissed,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tVisible(fal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modal: actions often placed into separate Thr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 dig = new Dialog(this,false)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alog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c class DialogTest extends JFram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alogTest w = new DialogTest();       w.show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vate JTextArea d = new JTextArea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vate JCheckBox cb = new JCheckBox("Modal Dialog?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c DialogTes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Title("DialogTest");  setSize(300,22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("West",cb);  add("East",new MakeButton());  add("South",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vate void makeDialog(boolean modalFlag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nal JDialog dialog = new JDialog(this,modalFlag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alog.setSize(100,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alog.add("North",new CountButton(1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alog.add("West",new CountButton(2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alog.add("East",new CountButton(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alog.add("South", new ButtonAdapter("Hide"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c void pressed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alog.setVisible(fal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alog.show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vate class MakeButton extends ButtonAdapter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c MakeButton() {  super("Make Dialog");   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c void pressed() {   makeDialog(cb.isSelected());  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vate class CountButton extends ButtonAdapter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c CountButton(int value)  {  super("" + value);  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c void pressed() {  d.append("Button " + getLabel() + " pressed\n");</a:t>
            </a:r>
            <a:r>
              <a:rPr b="0" lang="en-US" sz="18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} }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FileChoos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 javax.swing.filechooser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c = new JFileChooser(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c void actionPerformed(ActionEvent e) {                                                                                      if (e.getSource() == openButton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 returnVal = fc.showOpenDialog(FileChooserDemo.thi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(returnVal == JFileChooser.APPROVE_OPTION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file = fc.getSelectedFil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… This is where a real application would open the file.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.append("Opening: " + file.getName() + "." + newlin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.append("Open command cancelled by user." + newlin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.setCaretPosition(log.getDocument().getLength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MenuB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ached to JFrame by setJMenuBar(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MenuBar bar = new JMenuBa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JMenuBar(ba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menu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Menu HelpMenu = new JMenu(“Help”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r.add(helpMenu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menu ite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MenuItem quitItem = new JMenuItem(“Quit”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itItem.addActionListener(new QuitListener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lpMenu.add(quitIte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imations: javax.swing.Timer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tionListener incrementYPosition = new ActionListen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c void actionPerformed(ActionEvent ev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(_y &lt; 40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_y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(_frame != null) _frame.repa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_timer.stop(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_timer = new javax.swing.Timer(10,incrementYPositio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_timer.star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fe loading of an ImageIc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** Returns an ImageIcon, or null if the path was invalid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ected static ImageIcon createImageIcon(String path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ava.net.URL imgURL = ButtonDemo.class.getResource(pa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(imgURL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 new ImageIcon(imgUR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.err.println("Couldn't find file: " + pa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ttonDemo action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c void actionPerformed(ActionEvent 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("disable".equals(e.getActionCommand()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2.setEnabled(fal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1.setEnabled(fal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3.setEnabled(tr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2.setEnabled(tr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1.setEnabled(tr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3.setEnabled(fal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ting up a butt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1 = new JButton("Disable middle button", leftButtonIco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1.setVerticalTextPosition(AbstractButton.CENT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aka LEFT, for left-to-right locales   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1.setHorizontalTextPosition(AbstractButton.LEADING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1.setMnemonic(KeyEvent.VK_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1.setActionCommand("disable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1.addActionListener(thi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1.setToolTipText("Click this button to disable the middle button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Checkbo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/display labeled binary state (on/off,  yes/no, selected/unselect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Label(), setLabel(String)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elected(), setSelected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: an ItemListener for an ItemEv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ivia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 javax.swing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 java.awt.even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c class CheckBoxTest extends JFram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vate JCheckBox cb = new JCheckBox("off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BoxTest w = new CheckBoxTes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.show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c CheckBoxTes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Title("CheckBoxTes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Size(300,7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b.addItemListener(new CheckBoxTestListener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("Center", cb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vate class CheckBoxTestListener implements ItemListener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c void itemStateChanged(ItemEvent 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b.setLabel( (cb.isSelected()) ? "ON" : "OFF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dioButtonDem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c class RadioButtonDemo extends JPa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lements ActionListener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ic String birdString = "Bird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…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RadioButton birdButton = new JRadioButton(birdString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rdButton.setMnemonic(KeyEvent.VK_B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rdButton.setActionCommand(birdString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rdButton.setSelected(tr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ttonGroup group = new ButtonGroup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oup.add(birdButto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oup.add(catButto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3T20:58:00Z</dcterms:created>
  <dc:creator>bernhard</dc:creator>
  <dc:description/>
  <dc:language>en-US</dc:language>
  <cp:lastModifiedBy>CS, SCMS Waikato University</cp:lastModifiedBy>
  <cp:lastPrinted>2009-04-22T19:24:48Z</cp:lastPrinted>
  <dcterms:modified xsi:type="dcterms:W3CDTF">2007-08-05T20:16:05Z</dcterms:modified>
  <cp:revision>187</cp:revision>
  <dc:subject/>
  <dc:title>Types and type classes</dc:title>
</cp:coreProperties>
</file>