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FD0-E737-4AC2-A133-53373EE8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1E7-785B-4454-84A2-8D5E8796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004-169D-4569-9CC5-7662F2EA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1E2-DCAA-4DB3-A921-08903A7E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A972-468E-4A8B-8584-35918AE3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826-69DF-4908-920D-916A2B1C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2D37-4615-4A6D-9E4F-775499EB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5294-1CAF-4F4E-AB3B-8FF5E0D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038B-2056-4599-BA44-00439148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268E-4B44-4649-89B6-01913870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396F-14BC-46F8-AEE9-DEE73AA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8C1-7DD8-4AF2-AD8D-7EC0D9B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2BB-2D53-4C63-9D75-65EDBED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42D-4363-44FE-9136-9DA7620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ED5-51E5-4380-9D61-4BD7CD3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B7E-6981-46D0-9F7C-12DFD867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1203-3319-4355-85CF-97FFD8FD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A3B-8C76-42D4-9180-7F04A8B2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407-D480-4101-AD81-C3DE0E8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16F-D1FA-4186-8BDF-F4357DBC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5E9-2525-4D67-9C77-7A6F24D1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643-7437-4CB7-AC06-E58F3F2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CA9-A7BC-473D-A695-7AD4556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456-39DA-4BD7-82AA-4C20837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0F55-7425-493B-AD14-51C3E3433A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E23-06AD-4025-A306-F9CDDBC95A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wing: the art of the GU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204, Bernhard Pfahr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with anonymous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Panel p = new JPanel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.add(new ButtonAdapter(“Quit”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void pressed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seListen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ev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Pressed(MouseEvent 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Released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Clicked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Entered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Exited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dious to implement all when only one is needed: instead subclass abstract MouseAd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 MouseMo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java.sun.com/docs/books/tutorial/uiswing/events/mouselistener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is very powerful, but also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t on top of AW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lasses start with J.., e.g. J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(at least):  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Swing classes are subclasses of AWT classes, e.g. javax.swing JFrame extends java.awt.Fra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GUIs use double-buffering (default) =&gt; no flick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 elements are eith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s with specific function (e.g. JButt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ers for GUI elements (e.g. JFr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ic GUI app (composition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is NOT thread-safe, for efficiency reasons (see link on web-page for more detai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be carefu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tatic void main 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x.swing.SwingUtilities.invokeLater(new Runnabl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GUIClass().createAndShowGUI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createAndShowGUI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frame = new JFrame(”Titl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make sure closing ex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… more setup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frame.pack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dating the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ever something changes (e.g. text of a JLabel), need to call repain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VER call paint direct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t handling thread queues repaint() request, will fuse multiple calls on the same object into one, and eventually call pa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Components have appropriate paint methods, but you can do your own, if you need (e.g. animation, see code examp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pai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setColor(_colo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fillOval(_x-_radius,_y-_radius,2*_radius,2*_radiu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 classes need to know where elements go to on the scree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er content = getContentPa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Manager layout = new GridLayout(3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.setLayout(layou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celsiusLabel = new JLabel("Celsiu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.add(_celsiusLabe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: BorderLayout, FlowLayout, BoxLayout, CardLayout, GridBagLayou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JavaDoc for details, and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tons and ActionListe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interaction by attaching Listeners to GUI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Button b = new JButton(“do it!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addActionListener(new DoI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class DoIt implements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actionPerformed( ActionEvent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ternative: inheritance + interface implement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n one g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class ColorButton extends JButton implements ActionListen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Color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olorButton(Color c1, String nam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(nam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= c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ActionListener(this);   //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URSELVES 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actionPerformed(ActionEvent e) {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FromColor(c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 class: ButtonAdapte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ButtonAdapter extends J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s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ButtonAdapt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ActionListener(thi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actionPerformed(ActionEvent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sed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abstract void pressed(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omputer Science</cp:lastModifiedBy>
  <cp:lastPrinted>2009-04-22T19:24:48Z</cp:lastPrinted>
  <dcterms:modified xsi:type="dcterms:W3CDTF">2007-07-25T23:49:56Z</dcterms:modified>
  <cp:revision>165</cp:revision>
  <dc:subject/>
  <dc:title>Types and type classes</dc:title>
</cp:coreProperties>
</file>