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0AC-FB8A-492E-821C-74B0CA88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9F3-6E16-4C4F-8CDD-44256598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2A98-10FD-4C7D-8F1C-D6549841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608-5B6B-47C4-8C9A-0982FBFD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2912-5572-4022-96F3-00DE5D30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9A25-4DC3-4E97-8E87-C70D0BF1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4276-3493-4B8F-A8A8-F2A85E09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AF4A-3FE9-4C6C-A165-801BC76B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0879-AFCD-434C-B5B4-78CEB3B5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C21B-6FDA-4361-B9C1-24D41C0A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E084-8FEF-46E5-B077-03620120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DF6-EED8-44D3-9AED-FB0246DC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3563-4231-47E4-A664-8AE6816A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B1B9-427D-4CC7-B1D5-4DEC2B6A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0FAF-AC17-4756-A880-8AA57808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1B6D-AA82-40CC-9421-28E51B9C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8C4B-C341-4502-8BE0-DEAA53B8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04DD-DA1F-4C96-874F-66EBB665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691-DCA2-4B9A-8E12-B1CB1D82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60D-7A65-403E-9BB7-B71CC744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AF8B-52ED-4D7F-8EA4-0A109292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F0D9-F100-4780-B186-51D943B7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E5A-79CB-4236-A8D8-EF0DBDDA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F8B-9F60-459E-B3C3-1498FCD1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6E29-AF0E-485A-B4FE-18D3494990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989D-C9B3-4090-81AF-4F488B0622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mplications of Inheritan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204, Bernhard Pfahrin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ones: cavea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 a shallow copy, sometimes need deep cop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539360" y="3435480"/>
            <a:ext cx="4586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                  a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                  a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                  a box                       a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                  a box                       a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38098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56386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50292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1148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35053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56386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50292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1148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5053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50292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56386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365760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886200" y="40381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91000" y="3664080"/>
            <a:ext cx="137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arameter passing as assign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ing a variable considered similar to assignment, as same value accessible through two different names; pass value, loose some contro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neaky (Box b) {b.setValue(11);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.setValue(7); sneaky(x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.out.println(x.getValue(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ality test: object ident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for primitiv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 == (3+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’ == ‘\141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== 2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objects: == implemen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bject ident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refo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Integer(7) != new Integer(3+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we really wa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bject equa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stead of object identidy: equals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ality test: object equ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lied by class Object, can be overridd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ircle extends Shape {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boolean equals(Object ar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((arg instanceof Circle) &amp;&a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radius == ((Circle) arg).radius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ful: must be symmetric and tran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uristic: use == for numbers and null, equals in all other situ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ality test: bu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Shape {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boolean equals(Object ar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((arg instanceof Shape) &amp;&a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x == ((Shape) arg).x) &amp;&a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y == ((Shape) arg).y)) 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 equals defined in class Square, th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are s = new Square(10,10,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rcle c = new Circle(10,10,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.equals(c);    //  succ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.equals(s);    //  fai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tter sol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ss Shape {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boolean equals(Object ar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 ((arg.getClass() ==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_x0004_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hape.class)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x == ((Shape) arg).x)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y == ((Shape) arg).y))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ss Circle extends Shape {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boolean equals(Object ar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 ((arg.getClass() == Circle.class)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x == ((Shape) arg).x)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y == ((Shape) arg).y)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adius == ((Circle) arg).radius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ct, but no inheritance, code dupl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rbage collection (G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p-based memory not automatically recovered on method exit (unlike stac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 management error-prone (like “free” operator in C++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et to free: memory lea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 multiple ti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freed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 compromise: have automatic garbage coll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untime cost, but not too ba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O languag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pport polymorphic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ymorphic variables: memory requirements unknown at compile-time =&gt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lloca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p allocation =&gt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ference semant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ssignment and parameter par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: equality testing =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bject id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: memory management necessary =&gt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garbage colle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G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olymorphic vari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3809880"/>
            <a:ext cx="131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895480" y="20574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3733920"/>
            <a:ext cx="131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4480" y="2055960"/>
            <a:ext cx="1371600" cy="106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3809880"/>
            <a:ext cx="1371600" cy="106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3733920"/>
            <a:ext cx="1371600" cy="106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5960" y="3125520"/>
            <a:ext cx="1215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3809880" y="3124080"/>
            <a:ext cx="1828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438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02760" y="4807080"/>
            <a:ext cx="416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pe form = new Circle(10,10,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.describ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 = new Square(15,20,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.describ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029200" y="46479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133360" y="4724280"/>
            <a:ext cx="19047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-based vs. heap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-based tied to method entry/ex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cate space for all local vars on en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allocate on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by numeric offset (activation recor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space requirements at compile-time, not possible for polymorphic variabl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: all objects allocated on the heap (new operator), local vars point to these objects, pointers have a fixed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has no pointers, but internally all object values are represented by pointer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ctoria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c public int factorial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 c = n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 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(c&gt;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 = n*factorial(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 =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984200" y="2666880"/>
            <a:ext cx="194112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     n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: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     n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: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     n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: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    c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10666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5181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4800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4572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4191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886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47080" y="2722680"/>
            <a:ext cx="1082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3581280"/>
            <a:ext cx="1082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4572000"/>
            <a:ext cx="1082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4572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75160" y="198756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torial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90512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lternative approach (e.g. C++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approaches are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++: want to use stack (efficienc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ment: extra fields are sliced off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 Square is turned into a Shap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distinguish between virtual/non-virtual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destructor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ers/references/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y-semantic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ssignment: reference semantic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x x = new Bo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setValue(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x y =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.setValue(1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.out.println(x.getValu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.out.println(y.getValu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812040" y="4273560"/>
            <a:ext cx="260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480060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4191120"/>
            <a:ext cx="12956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5410080"/>
            <a:ext cx="12956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44197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419720" y="510516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24200" y="6102360"/>
            <a:ext cx="72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copy pointer value, i.e. point to same heap-loc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py desired, must say so, DIY approac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 y = new Box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.setValue(x.getValue(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, package into proper metho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Box copy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x b = new Bo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.setValue(getValu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ones: 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Object provides protected method clone() creating a bitwise copy of the receiver, plus interface Clone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must override clone() to public and implement Cloneab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class Box implements Cloneab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c Object clon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x b = new Box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.setValue(getValu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:  Box y = (Box) x.clone();   // must cast !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20:58:00Z</dcterms:created>
  <dc:creator>bernhard</dc:creator>
  <dc:description/>
  <dc:language>en-US</dc:language>
  <cp:lastModifiedBy>CS, SCMS Waikato University</cp:lastModifiedBy>
  <cp:lastPrinted>2009-04-22T19:24:48Z</cp:lastPrinted>
  <dcterms:modified xsi:type="dcterms:W3CDTF">2007-07-11T07:50:59Z</dcterms:modified>
  <cp:revision>127</cp:revision>
  <dc:subject/>
  <dc:title>Types and type classes</dc:title>
</cp:coreProperties>
</file>